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6E31-6D90-4417-A879-60577AEE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A24C-D9B4-4FB0-9F95-E54E1CBD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26FC-3FDC-4D83-A426-C2411F03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3C75-900C-4952-966B-5DC2C926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237F-9B3B-40A5-835D-27746D6C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327C-581B-46B3-80CD-3CF10997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2283-533A-425C-BB38-253FCF75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01E0-BE7F-4F29-9D2E-690BC4A2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C411-96E3-4E64-8B88-D5CA00A3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8836-4FE0-4B26-91E1-82CC1AE6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D992-C72C-4D9E-8513-EC8E9AC1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63F9-F3B3-4584-A038-0B705DC7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1DDB-2B64-42A7-A91C-6D8A4D867623}" type="datetime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2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452760" y="6359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6CD9-FD0A-4789-BEE9-CABE303435E9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51424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JERRY Project Planning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&gt; Software &lt;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62960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Yang Yong Qi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 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, 28.02.200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E4BE-370B-4225-A9DF-CFFBDCC148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-HW: 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oul Erik Rask</a:t>
            </a:r>
            <a:r>
              <a:rPr b="0" lang="en-US" sz="36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(Aalborg / DK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Experienced technical project leader of ODM projects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L50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T55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T60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FX65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L75 (Taiwan)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Hardware project leader of JERRY (in Aalbor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DF3D-6FEE-4B23-B664-B853869D34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-IM/DL: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Allan Hansen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(Aalborg / DK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a0e66"/>
                </a:solidFill>
                <a:latin typeface="Minion"/>
              </a:rPr>
              <a:t>Software and Integration Manager of Projects lik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oC for Ulysses Refresh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“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Next generation software platform”</a:t>
            </a:r>
            <a:br>
              <a:rPr sz="2400"/>
            </a:b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roject leader Integration Management and Device Layer for JERRY (working in Beijin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45E2-F260-472E-822C-B93A232376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art Project Leaders (PPL) working in Aal / DK: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lemming Kokholm (JERRY: System Test): 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Venus (ODM), S56 Marlin, Aries, Cormorant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Randi Bak (JERRY: Layout / Production Data): 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Xelibri X3, Hera, Cormora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lemming Bach Kristensen (JERRY: Digital HW): 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56, C56, Janus, Venus, Robin, Wolf 4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Arne Bisgaard Kristensen (JERRY: EMC/Ant): Hera C65, C66, C70, C71, Pegasus AX75, AX76, AX72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Michael Brammer (JERRY: RF): 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HP4000, Dual com 738, World 718, Dual com 439/939, Dual GSM 300, SP55, SX1, Hydra.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D812-67DE-4907-8CA7-793F1DCB48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 SW:    Yang Yong Qiang (Beijing, PRC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9 years in software development Mobile phones and IS-95 CDMA Basesta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Leading Java topics in Beijing R&amp;D Center, BenQ/Siemens Mobile, incl. CLDC HI, DoJa, JSR177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L SW Dorado and Libra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宋体"/>
              </a:rPr>
              <a:t>Software Project Leader of JERRY (in Beijin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3F2D-25FD-4404-A2EE-1C689A2F64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 Feature: Hu Chun Yan (Beijing, PRC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8 years in software development Mobile phon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Leading DoJa Development in Beijing R&amp;D Center, BenQ/Siemens Mobil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a0e66"/>
                </a:solidFill>
                <a:latin typeface="Minion"/>
                <a:ea typeface="宋体"/>
              </a:rPr>
              <a:t>Features Project Leader of JERRY (in Beijin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6B31-6E6A-4AF7-8B4E-EE13F0DF14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BenQ Beijing Development Team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5 years SW development experience on average, with 2 years in BenQ/Siemens Mobil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System Architect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tefan Burkert (coach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Chen Mia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Development Team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Cui Yi (Lead)                             Lu Qi Wen (SW Arch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ong Wen Juan (SW Arch)       Yi Xiao Qiang (SE*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Zhou Tong (SE*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2 local consultant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宋体"/>
              </a:rPr>
              <a:t>-- SE* = Senior Engineer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A4A0-53AB-4BB8-9E46-E3CDBEABFD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SISL PL off-shore: Rajeev Chauhan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11 years in software development and system testing for Mobile phon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UMTS NodeB OAM, transportation systems and protocol developme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a0e66"/>
                </a:solidFill>
                <a:latin typeface="Minion"/>
                <a:ea typeface="宋体"/>
              </a:rPr>
              <a:t>Leader of the UI development team in India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7C66-BE73-4862-ACB2-2F95B558BA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SL Development Team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More than 5 years SW development experience on averag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Rajeev Bhatia: Architect AppMsg (messagin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Sunisha Aggarwal: Architect AppBase/Avatar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Gagan Kashyap: Architect AppBase/AppIDC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25 SW Engineers (with 2 - 11 years experience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01AD-7FC9-4EE9-B3F5-90238AC089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Software Project going AG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825480"/>
            <a:ext cx="837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ACKLOG = list of all tasks to be performed        [Ref.:    C75-Aries / SGlite S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3880" y="1239840"/>
            <a:ext cx="8394840" cy="50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049C-82A9-4566-BF2F-241C5D3309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Software Project going AG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825480"/>
            <a:ext cx="83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ACKLOG (continued)        [Ref.:    C75-Aries / SGlite S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01760" y="1252440"/>
            <a:ext cx="8332560" cy="440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1466-80E8-48EC-A74C-450B624978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CONTENT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1067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Resource Profile  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81080"/>
            <a:ext cx="8305920" cy="160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4822-D080-4D81-BF48-89002D8976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Software Project going AG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825480"/>
            <a:ext cx="83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ACKLOG (continued)        [Ref.:    C75-Aries / SGlite S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19040" y="1263600"/>
            <a:ext cx="8305920" cy="44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0C4-51F0-4EA6-B6E4-DC4FD4F211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.1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5920" y="992160"/>
            <a:ext cx="8346960" cy="484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BB96-36E5-40FE-A76E-8890744FF3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.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07880" y="976320"/>
            <a:ext cx="8339400" cy="471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C019-BD42-4444-B20E-3CAEEAAD81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.3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07880" y="958680"/>
            <a:ext cx="8348760" cy="324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50BA-49A0-4F3C-919D-05F98DC254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.4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09680" y="950760"/>
            <a:ext cx="8324640" cy="369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42CA-D382-4368-9697-9AFAE80C8E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.1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53880" y="988920"/>
            <a:ext cx="8394840" cy="520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2F9C-FF13-4ED3-A4E3-E36B17597B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.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57120" y="984240"/>
            <a:ext cx="8393040" cy="371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FA5A-36C2-4488-8903-30E5D660779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I.1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53880" y="985680"/>
            <a:ext cx="8385480" cy="438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9E30-CB09-4372-B58E-61629FEBE5C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I.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57120" y="988920"/>
            <a:ext cx="8391600" cy="408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E9D1-BFCF-41D0-A7E2-020E1753EFB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I.3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53880" y="982800"/>
            <a:ext cx="8390160" cy="383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49E3-6347-4E14-A9F9-ABAAB61FA36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3480" y="816120"/>
            <a:ext cx="1874880" cy="4381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PM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Koh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Kheng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Sara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anning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 SW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Yang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Y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06560" y="5075280"/>
            <a:ext cx="2475000" cy="5540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PM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Zhang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88600" y="148284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: 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0440" y="1463760"/>
            <a:ext cx="224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alborg:  HW 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3520" y="1268280"/>
            <a:ext cx="1829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 / Shangha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E047-326D-4DC3-B643-940A593158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V.1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7120" y="981000"/>
            <a:ext cx="8396280" cy="36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6156-82E0-4479-820B-3D75AB7D907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V.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53880" y="976320"/>
            <a:ext cx="8404200" cy="3913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454040" y="5175360"/>
            <a:ext cx="6112080" cy="82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B968-AD2F-4E7C-BC05-0F6625B8A14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2" name=""/>
          <p:cNvSpPr/>
          <p:nvPr/>
        </p:nvSpPr>
        <p:spPr>
          <a:xfrm>
            <a:off x="3875760" y="133344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Agreed Product Backlog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3 M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0440" y="404964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73240" y="512928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07760" y="579744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63400" y="77148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 Milestones (Ag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6840" y="1752480"/>
            <a:ext cx="56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1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3 A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41240" y="2068560"/>
            <a:ext cx="38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7 A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14240" y="2570040"/>
            <a:ext cx="57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2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4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28640" y="2886120"/>
            <a:ext cx="38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1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6840" y="3351240"/>
            <a:ext cx="55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3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5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1240" y="3666960"/>
            <a:ext cx="37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9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34760" y="4465800"/>
            <a:ext cx="55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4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91960" y="4781520"/>
            <a:ext cx="45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25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34760" y="5467320"/>
            <a:ext cx="38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3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28 Ju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5885-7E63-42E5-8985-B5DBA265EA1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Vodafone Approval plan (SGL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1348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210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216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10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6322-3635-452E-9BF8-04AAA5D08C0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5" name=""/>
          <p:cNvSpPr/>
          <p:nvPr/>
        </p:nvSpPr>
        <p:spPr>
          <a:xfrm>
            <a:off x="4205880" y="174636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=      Design Freez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30440" y="295416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03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4400" y="325116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07760" y="460368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75760" y="557208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hipment to Opcos by: 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3 Oc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03000" y="77148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CD24-0368-439A-BEB5-403F2FD6672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9572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Project Pla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6134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804960"/>
            <a:ext cx="847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36332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78440" y="763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52160" y="7635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86360" y="76356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51800" y="7635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46320" y="76356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4596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513920" y="76356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8476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4600" y="1033560"/>
            <a:ext cx="84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3720" y="792000"/>
            <a:ext cx="0" cy="5315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175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7360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6244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5164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4048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31120" y="7905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2176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8120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83720" y="1096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8420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84280" y="11095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569640" y="1096920"/>
            <a:ext cx="3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13600" y="1096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19240" y="10969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3/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7364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067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9556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8476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95480" y="1650960"/>
            <a:ext cx="1587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11520" y="1650960"/>
            <a:ext cx="1158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08520" y="1650960"/>
            <a:ext cx="12636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99120" y="1650960"/>
            <a:ext cx="1320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91400" y="1650960"/>
            <a:ext cx="930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mp-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9558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2096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5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72088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1213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0865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6651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2039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686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85760" y="1484280"/>
            <a:ext cx="0" cy="467856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27320" y="14716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8604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5120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3872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203880" y="14590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16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342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82964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29320" y="1695600"/>
            <a:ext cx="2635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ilot R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76400" y="2212920"/>
            <a:ext cx="7398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e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35280" y="2212920"/>
            <a:ext cx="9777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32120" y="2212920"/>
            <a:ext cx="9399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ard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440" y="2212920"/>
            <a:ext cx="13111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43680" y="2212920"/>
            <a:ext cx="13395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8260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0168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3048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5136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14560" y="3252960"/>
            <a:ext cx="95868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c simu set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-up / power on dialo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hone spaces, colour schemes, icons, fo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and feel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and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 or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049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/ power on dialog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.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lume Side, Ringer Side &amp; and lock k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ync. incl. remote sy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481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s full fun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&amp; Feel – full compli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itions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14720" y="3252960"/>
            <a:ext cx="93996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nterruption by ev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leep mode with timer 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Text messages (S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hover functionality in Contact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2714760"/>
            <a:ext cx="8077320" cy="936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480" y="1690560"/>
            <a:ext cx="101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60640" y="5856120"/>
            <a:ext cx="647640" cy="455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Sprin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Approv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45200" y="5816520"/>
            <a:ext cx="1316160" cy="39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Global SW 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7043760" y="559044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280" y="2246400"/>
            <a:ext cx="1064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800" y="2854440"/>
            <a:ext cx="925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02040" y="5848200"/>
            <a:ext cx="647640" cy="455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Sprin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Approv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98800" y="5856120"/>
            <a:ext cx="647640" cy="455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Sprint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Approv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64240" y="5324400"/>
            <a:ext cx="1658880" cy="260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Sprint 4</a:t>
            </a: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 Approval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42000" y="5324400"/>
            <a:ext cx="771480" cy="347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86CB-8660-4004-ADA4-B81A8248F093}" type="slidenum">
              <a:t>35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38040" y="603360"/>
            <a:ext cx="8229600" cy="601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3C26-A514-4E03-8577-C997E953BE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EAF5-60B0-495A-AD26-BB741DEEBBA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Integration Management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9280" y="1052640"/>
          <a:ext cx="4076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4076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924360" y="3573360"/>
          <a:ext cx="4437000" cy="297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44370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9C4B-3DF6-4517-B3CB-0391CB37CD9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Meaning of Acronym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3722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Organizational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QA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  = Quality Assuranc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HW   = Hardwar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MD    = Mechanical Desig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ST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  = System Tes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LCM  = Lifecycle Managemen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NPI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  = New Products Introduc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4" name=""/>
          <p:cNvSpPr/>
          <p:nvPr/>
        </p:nvSpPr>
        <p:spPr>
          <a:xfrm>
            <a:off x="4772160" y="990720"/>
            <a:ext cx="40100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Project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PM = Category Product Mana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L-T = Technical Project L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PM = Technical Product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BA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Business Admini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373560"/>
            <a:ext cx="4010040" cy="26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Technical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A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Cor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IM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Integration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BM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Build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M  = Configuration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IT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Core Integration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DB = Component Dat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IDB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Integration Dat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E07B-4452-4B5C-A411-518CDFA5C9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-T:          Lars Bonde (Aalborg / Denmark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Experienced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leader of ODM projects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Xelebri GPRS module (developed in France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Xelibri X8 (Developed in FIN / DK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Luna (Developed in Taiwan)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Mars CC75 (Developed in Finland)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Technical Project Leader of JERRY in Aalborg - responsible for all work-packages assigned to Aalborg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0E24-F370-4B3E-A0B9-AB39C50876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-MD: 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hristian P. Nielsen (Aalborg / DK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Experienced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leader of mechanical projects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Dual 909, Dual 909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Xelibri X3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Hera Nop1, 2 and 3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ormorant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echanical project leader of JERRY (in Aalbor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4BEB-1263-4EE9-A751-68844A7E1A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/>
  <dc:description/>
  <dc:language>en-US</dc:language>
  <cp:lastModifiedBy/>
  <dcterms:modified xsi:type="dcterms:W3CDTF">2006-02-28T12:12:17Z</dcterms:modified>
  <cp:revision>239</cp:revision>
  <dc:subject/>
  <dc:title>PowerPoint</dc:title>
</cp:coreProperties>
</file>